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A503-3116-4641-89EE-1D3989119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FAAC-20F1-4978-A4EF-3B0360017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A0AD-9148-4A13-BFB1-D88B661FB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2057-E437-4206-9B91-27454CA80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1D12EB-68EE-4A55-90E4-B466C81ED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7EBF99-3652-4EBC-98AB-FCA486A3E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34100F-6D80-479E-96F1-CC35CD419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7EC68D-DC24-4E70-950E-FD36DE977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FEC6B7-6C93-41BB-8E75-65D5A3AAA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F6B32F-4F3D-47EA-BE7A-521886E3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AFEF66-D7AC-45D9-A301-E147D9DF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9604-03A5-48D9-B9B7-9765679AD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3B51CA-4DB6-4D41-8814-25A31F67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5DAC0F-2AB4-46E0-BF90-5D9F0C82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692879-4020-4139-BA9C-9CC9B3F9A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9DFB8E-523B-40B5-90DD-0E5175C90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ADFDC1-E35B-454F-A84C-FF72520AF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85A8-B5C1-4C60-9D9D-251B5BA8A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7BD9-3B21-454C-A216-63C128A45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F6D3-EAE6-46CC-B72C-01811E34D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87A4-7818-469A-9CD0-C10DD3723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083F-8A71-4090-8600-C4764E1D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996C-D686-4E18-AEB1-5A200A63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7BBB-0FD1-401F-936E-22A322F1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0A7F1-0D7B-43F8-94C7-9010E5A6E5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57C10-5174-4B9B-939C-733782396C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motherjones.com/blue_marble_blog/792px-Polar_Bear_2004-11-15.jpg&amp;imgrefurl=http://www.motherjones.com/blue_marble_blog/archives/2007/10/&amp;h=600&amp;w=792&amp;sz=102&amp;hl=en&amp;start=5&amp;tbnid=N_I-rKLR1O1-YM:&amp;tbnh=108&amp;tbnw=143&amp;prev=/images%3Fq%3Dpolar%2Bbears%26gbv%3D2%26hl%3Den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theage.com.au/ffximage/2006/02/09/svPOLAR_narrowweb__300x447,0.jpg&amp;imgrefurl=http://dearkitty.blogsome.com/2007/03/01/&amp;h=447&amp;w=300&amp;sz=16&amp;hl=en&amp;start=17&amp;tbnid=qQIYsbOpfFV_TM:&amp;tbnh=127&amp;tbnw=85&amp;prev=/images%3Fq%3Dpolar%2Bbears%26gbv%3D2%26hl%3Den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www.theage.com.au/ffximage/2006/02/09/svPOLAR_narrowweb__300x447,0.jpg&amp;imgrefurl=http://dearkitty.blogsome.com/2007/03/01/&amp;h=447&amp;w=300&amp;sz=16&amp;hl=en&amp;start=17&amp;tbnid=qQIYsbOpfFV_TM:&amp;tbnh=127&amp;tbnw=85&amp;prev=/images%3Fq%3Dpolar%2Bbears%26gbv%3D2%26hl%3Den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komar.org/faq/churchill_polar_bear_tours/polar-bears-standing.jpg&amp;imgrefurl=http://www.komar.org/faq/churchill_polar_bear_tours/&amp;h=600&amp;w=600&amp;sz=24&amp;hl=en&amp;start=15&amp;tbnid=RyD0yqKy5MX0nM:&amp;tbnh=135&amp;tbnw=135&amp;prev=/images%3Fq%3Dpolar%2Bbears%26gbv%3D2%26hl%3Den" TargetMode="External"/><Relationship Id="rId3" Type="http://schemas.openxmlformats.org/officeDocument/2006/relationships/image" Target="../media/image5.jpeg"/><Relationship Id="rId4" Type="http://schemas.openxmlformats.org/officeDocument/2006/relationships/hyperlink" Target="http://images.google.com/imgres?imgurl=http://www.komar.org/faq/churchill_polar_bear_tours/polar-bears-standing.jpg&amp;imgrefurl=http://www.komar.org/faq/churchill_polar_bear_tours/&amp;h=600&amp;w=600&amp;sz=24&amp;hl=en&amp;start=15&amp;tbnid=RyD0yqKy5MX0nM:&amp;tbnh=135&amp;tbnw=135&amp;prev=/images%3Fq%3Dpolar%2Bbears%26gbv%3D2%26hl%3Den" TargetMode="External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olar  Bea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Chelse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124080" y="4419720"/>
            <a:ext cx="29527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o you like Polar bears? Well if so, read to learn about them.         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81080" y="2057400"/>
            <a:ext cx="48006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olar bears live where it is cold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can live where it’s cold because they are warm blood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23880" y="3124080"/>
            <a:ext cx="2514600" cy="28958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038480" y="3124080"/>
            <a:ext cx="23623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y live in caves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ves keep them saf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29040" y="278604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29040" y="278604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3581280" y="2666880"/>
            <a:ext cx="2133720" cy="24386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7"/>
          <a:stretch/>
        </p:blipFill>
        <p:spPr>
          <a:xfrm>
            <a:off x="1371600" y="2666880"/>
            <a:ext cx="222876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y eat many things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eat fish, seals, and kril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429000" y="3389400"/>
            <a:ext cx="295272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olar bears live in the Arctic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live there because it’s col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267080" y="2895480"/>
            <a:ext cx="295272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se are some facts about Polar bear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514600" y="2590920"/>
            <a:ext cx="4876920" cy="35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2:47:23Z</dcterms:created>
  <dc:creator>kkaiser</dc:creator>
  <dc:description/>
  <dc:language>en-US</dc:language>
  <cp:lastModifiedBy>JATKINSO</cp:lastModifiedBy>
  <dcterms:modified xsi:type="dcterms:W3CDTF">2008-02-22T19:21:22Z</dcterms:modified>
  <cp:revision>4</cp:revision>
  <dc:subject/>
  <dc:title>Animal Name</dc:title>
</cp:coreProperties>
</file>